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808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94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808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94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_x000e_background.jpg                                                 0000BC0D_x0007_NETWORK                        B6CD5475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5e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20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harlesworth"/>
              </a:rPr>
              <a:t>Module 12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바탕"/>
              </a:rPr>
              <a:t>Remembering &amp; Forget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029" descr="http://www.mtncartoons.com/images/949-Aug%2010%20'00-forgot%20tie%20shoes.gif"/>
          <p:cNvPicPr/>
          <p:nvPr/>
        </p:nvPicPr>
        <p:blipFill>
          <a:blip r:embed="rId1"/>
          <a:stretch/>
        </p:blipFill>
        <p:spPr>
          <a:xfrm>
            <a:off x="2743200" y="1905120"/>
            <a:ext cx="3465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http://www.ageworks.com/course_demo/520/module3/images/tongue.gif"/>
          <p:cNvPicPr/>
          <p:nvPr/>
        </p:nvPicPr>
        <p:blipFill>
          <a:blip r:embed="rId1"/>
          <a:stretch/>
        </p:blipFill>
        <p:spPr>
          <a:xfrm>
            <a:off x="1981080" y="457200"/>
            <a:ext cx="48355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Location of Memories in the Brai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vantGarde Md BT"/>
              </a:rPr>
              <a:t>Cortex </a:t>
            </a:r>
            <a:r>
              <a:rPr b="1" lang="en-US" sz="2100" spc="-1" strike="noStrike">
                <a:solidFill>
                  <a:srgbClr val="ffffff"/>
                </a:solidFill>
                <a:latin typeface="AvantGarde Md BT"/>
              </a:rPr>
              <a:t> - </a:t>
            </a:r>
            <a:r>
              <a:rPr b="1" lang="en-US" sz="2100" spc="-1" strike="noStrike">
                <a:solidFill>
                  <a:srgbClr val="000000"/>
                </a:solidFill>
                <a:latin typeface="AvantGarde Md BT"/>
              </a:rPr>
              <a:t>short &amp; long term mem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in layer of brain cells that cover the surface of the forebr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vantGarde Md BT"/>
              </a:rPr>
              <a:t>Amygdala</a:t>
            </a:r>
            <a:r>
              <a:rPr b="1" lang="en-US" sz="2100" spc="-1" strike="noStrike">
                <a:solidFill>
                  <a:srgbClr val="ffffff"/>
                </a:solidFill>
                <a:latin typeface="AvantGarde Md BT"/>
              </a:rPr>
              <a:t> – </a:t>
            </a:r>
            <a:r>
              <a:rPr b="1" lang="en-US" sz="2100" spc="-1" strike="noStrike">
                <a:solidFill>
                  <a:srgbClr val="000000"/>
                </a:solidFill>
                <a:latin typeface="AvantGarde Md BT"/>
              </a:rPr>
              <a:t>emotional mem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nd-shaped structure lying below the surface of the cortex in the tip of the temporal lo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lays a critical role in adding a wide range of emotions to our mem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AvantGarde Md BT"/>
              </a:rPr>
              <a:t>Hippocampus</a:t>
            </a:r>
            <a:r>
              <a:rPr b="1" lang="en-US" sz="2100" spc="-1" strike="noStrike">
                <a:solidFill>
                  <a:srgbClr val="ffffff"/>
                </a:solidFill>
                <a:latin typeface="AvantGarde Md BT"/>
              </a:rPr>
              <a:t> – </a:t>
            </a:r>
            <a:r>
              <a:rPr b="1" lang="en-US" sz="2100" spc="-1" strike="noStrike">
                <a:solidFill>
                  <a:srgbClr val="000000"/>
                </a:solidFill>
                <a:latin typeface="AvantGarde Md BT"/>
              </a:rPr>
              <a:t>transferring mem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urved, finger-like structure that lies beneath the cortex in the temporal lob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ansfers declarative information (words, facts &amp; events) from STM into LT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ocation of Memories in the Brain (cont.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_x0010_RP_268_brain.jpg                                               0000C45B_x0007_NETWORK                        B6CD5475:"/>
          <p:cNvPicPr/>
          <p:nvPr/>
        </p:nvPicPr>
        <p:blipFill>
          <a:blip r:embed="rId1"/>
          <a:stretch/>
        </p:blipFill>
        <p:spPr>
          <a:xfrm>
            <a:off x="716040" y="1014480"/>
            <a:ext cx="77104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100000">
              <a:srgbClr val="ff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MingLiU"/>
              </a:rPr>
              <a:t>Mnemonic Metho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ays to improve encoding and create better retrieval cues by forming vivid associations or ima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r. MIM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Typ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MS Mincho"/>
              </a:rPr>
              <a:t>1) Method of Lo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visual associations between already memorized places &amp; new items to be memoriz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MS Mincho"/>
              </a:rPr>
              <a:t>2) Peg Metho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ssociations between number-word rhymes and items to be memoriz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e is a bun; two is a shoe; three is a tree; four is a door; five is a h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 False Memories Be Implanted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earchers interviewed parents about events that occurred in their children’s lives during the past 12 month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ach 3- to 6-year-old was read a list of these events including some fictitious ev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hildren were asked to “think hard” &amp; identify the events that actually happe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_x0016_RP273_false-events.jpg                                         0000C45B_x0007_NETWORK                        B6CD5475:"/>
          <p:cNvPicPr/>
          <p:nvPr/>
        </p:nvPicPr>
        <p:blipFill>
          <a:blip r:embed="rId1"/>
          <a:stretch/>
        </p:blipFill>
        <p:spPr>
          <a:xfrm>
            <a:off x="1268280" y="3213000"/>
            <a:ext cx="6605640" cy="2781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1181160" y="5989680"/>
            <a:ext cx="666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 data from “Repeatedly Thinking About a Non-Event: Source Misattributions Among Pre-Schoolers,” by S. J. Ceci, M. L. C. Huffman, E. Smith &amp; E. Loftus, 1994, Consciousness and Cognition, 3, 388-4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nkGothic Md BT"/>
              </a:rPr>
              <a:t>How Accurate is an Eyewitnes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legro BT"/>
              </a:rPr>
              <a:t>Own-Rac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earchers found that an eyewitness of one race is less accurate when identifying an accused person of another r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legro BT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 reviews of studies concluded that there is a weak relationship between correct identification &amp; level of witness confid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http://www.fulero.com/documents/catlineup.gif"/>
          <p:cNvPicPr/>
          <p:nvPr/>
        </p:nvPicPr>
        <p:blipFill>
          <a:blip r:embed="rId2"/>
          <a:stretch/>
        </p:blipFill>
        <p:spPr>
          <a:xfrm>
            <a:off x="4648320" y="1219320"/>
            <a:ext cx="40338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http://www.skidmore.edu/~hfoley/images/kick.jpg"/>
          <p:cNvPicPr/>
          <p:nvPr/>
        </p:nvPicPr>
        <p:blipFill>
          <a:blip r:embed="rId1"/>
          <a:stretch/>
        </p:blipFill>
        <p:spPr>
          <a:xfrm>
            <a:off x="304920" y="1143000"/>
            <a:ext cx="844236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Zurich BlkEx BT"/>
              </a:rPr>
              <a:t>Recall vs. Recog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Ult BT"/>
              </a:rPr>
              <a:t>Re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Ult BT"/>
              </a:rPr>
              <a:t>Retrieving previously learned information without the aid of or with very few external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Ult BT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bel Ult BT"/>
              </a:rPr>
              <a:t>Identifying previously learned information with the help of more external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http://www.fotosearch.com/comp/ICL/ICL157/LJU_054.jpg"/>
          <p:cNvPicPr/>
          <p:nvPr/>
        </p:nvPicPr>
        <p:blipFill>
          <a:blip r:embed="rId1"/>
          <a:stretch/>
        </p:blipFill>
        <p:spPr>
          <a:xfrm>
            <a:off x="838080" y="3657600"/>
            <a:ext cx="2292480" cy="251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http://www.cartoonstock.com/newscartoons/cartoonists/ksm/lowres/ksmn890l.jpg"/>
          <p:cNvPicPr/>
          <p:nvPr/>
        </p:nvPicPr>
        <p:blipFill>
          <a:blip r:embed="rId2"/>
          <a:stretch/>
        </p:blipFill>
        <p:spPr>
          <a:xfrm>
            <a:off x="5029200" y="3200400"/>
            <a:ext cx="2316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0000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BernhardFashion BT"/>
              </a:rPr>
              <a:t>Organization of Memor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32004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Kabel Bk BT"/>
              </a:rPr>
              <a:t>Network The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abel Bk BT"/>
              </a:rPr>
              <a:t>We store related ideas in separate categories,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Kabel Bk BT"/>
              </a:rPr>
              <a:t>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abel Bk BT"/>
              </a:rPr>
              <a:t>As we make associations between information, we create links among thousands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Kabel Bk BT"/>
              </a:rPr>
              <a:t>Nodes make up a huge interconnected network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http://www.collisiondetection.net/images/football_algorithm.gif"/>
          <p:cNvPicPr/>
          <p:nvPr/>
        </p:nvPicPr>
        <p:blipFill>
          <a:blip r:embed="rId1"/>
          <a:stretch/>
        </p:blipFill>
        <p:spPr>
          <a:xfrm>
            <a:off x="457200" y="1143000"/>
            <a:ext cx="198108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://www.ciadvertising.org/SA/fall_02/adv382j/chuck/experience_network/brains1.jpg"/>
          <p:cNvPicPr/>
          <p:nvPr/>
        </p:nvPicPr>
        <p:blipFill>
          <a:blip r:embed="rId2"/>
          <a:stretch/>
        </p:blipFill>
        <p:spPr>
          <a:xfrm>
            <a:off x="3429000" y="1066680"/>
            <a:ext cx="2000160" cy="2503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ttp://selfhelpfreak.50webs.com/images/improve%20memory_questioning_salute.jpg"/>
          <p:cNvPicPr/>
          <p:nvPr/>
        </p:nvPicPr>
        <p:blipFill>
          <a:blip r:embed="rId3"/>
          <a:stretch/>
        </p:blipFill>
        <p:spPr>
          <a:xfrm>
            <a:off x="6400800" y="1523880"/>
            <a:ext cx="15019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llegro BT"/>
              </a:rPr>
              <a:t>Network Hierarch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Nod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Memory files that contain related information organized around a specific top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Network hierarc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rrangement of nodes in a certain ord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t the bottom, are nodes with very concrete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se nodes are linked to more specific information, which is connected to more general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1. ABSTRACT: anim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2.MORE SPECIFIC: bi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3. CONCRETE: blue j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http://www.curiosoft.com/images/AnimalJigsawScreenshots/animal-games-jigsaw-puzzles-screenshots-2.jpg"/>
          <p:cNvPicPr/>
          <p:nvPr/>
        </p:nvPicPr>
        <p:blipFill>
          <a:blip r:embed="rId1"/>
          <a:stretch/>
        </p:blipFill>
        <p:spPr>
          <a:xfrm>
            <a:off x="685800" y="4572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ftp.pcworld.com/pub/screencams/the-birds.jpg"/>
          <p:cNvPicPr/>
          <p:nvPr/>
        </p:nvPicPr>
        <p:blipFill>
          <a:blip r:embed="rId2"/>
          <a:stretch/>
        </p:blipFill>
        <p:spPr>
          <a:xfrm>
            <a:off x="3352680" y="45720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http://www.ownbyphotography.com/bluejay-1075C.jpg"/>
          <p:cNvPicPr/>
          <p:nvPr/>
        </p:nvPicPr>
        <p:blipFill>
          <a:blip r:embed="rId3"/>
          <a:stretch/>
        </p:blipFill>
        <p:spPr>
          <a:xfrm>
            <a:off x="6172200" y="3581280"/>
            <a:ext cx="193212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utura XBlk BT"/>
              </a:rPr>
              <a:t>Forgetting Cur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asures the amount of previously learned information that subjects can recall acros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_x0016_RP264_forget-curve.jpg                                         0000C45B_x0007_NETWORK                        B6CD5475: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304920" y="48769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MingLiU"/>
              </a:rPr>
              <a:t>Ebbingh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ne of the 1st psychologists to study memory &amp; forget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e tested his own memory of 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nonsense syllab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harlesworth"/>
              </a:rPr>
              <a:t>4 Reasons for Forget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1) R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tal process that automatically hides emotionally threatening or anxiety-producing information in the uncons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2) Poor Retrieval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trieval cues are mental reminders that we create by forming vivid mental images or creating associations between new information &amp; information we already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3) Am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ss of memory due to a blow or damage to the brain after drug use or after severe psychological st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4)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all of a memory is blocked by other related mem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33"/>
            </a:gs>
            <a:gs pos="100000">
              <a:srgbClr val="cc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llegro BT"/>
              </a:rPr>
              <a:t>2 Types of Interfer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572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바탕"/>
              </a:rPr>
              <a:t>Proac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ld information blocks the remembering of new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바탕"/>
              </a:rPr>
              <a:t>Retroact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information blocks the remembering of old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_x0019_RP266_proact-interfer.jpg                                      0000C45B_x0007_NETWORK                        B6CD5475:"/>
          <p:cNvPicPr/>
          <p:nvPr/>
        </p:nvPicPr>
        <p:blipFill>
          <a:blip r:embed="rId1"/>
          <a:stretch/>
        </p:blipFill>
        <p:spPr>
          <a:xfrm>
            <a:off x="1117440" y="3124080"/>
            <a:ext cx="2845080" cy="292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_x001b_RP266_retroact-interfer.jpg                                    0000C45B_x0007_NETWORK                        B6CD5475:"/>
          <p:cNvPicPr/>
          <p:nvPr/>
        </p:nvPicPr>
        <p:blipFill>
          <a:blip r:embed="rId2"/>
          <a:stretch/>
        </p:blipFill>
        <p:spPr>
          <a:xfrm>
            <a:off x="5181480" y="3124080"/>
            <a:ext cx="28512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merType Md BT"/>
              </a:rPr>
              <a:t>Retrieval C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</a:rPr>
              <a:t>Mental reminders that you create by forming vivid mental images of information or associating new information with information that you already kno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1.istockphoto.com/file_thumbview_approve/480111/2/istockphoto_480111_don_t_forget.jpg"/>
          <p:cNvPicPr/>
          <p:nvPr/>
        </p:nvPicPr>
        <p:blipFill>
          <a:blip r:embed="rId1"/>
          <a:stretch/>
        </p:blipFill>
        <p:spPr>
          <a:xfrm>
            <a:off x="2514600" y="2362320"/>
            <a:ext cx="3659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바탕"/>
              </a:rPr>
              <a:t>State Dependent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</a:rPr>
              <a:t>It is easier to recall information when you are in the same physiological or emotional state or setting as when you originally learned the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바탕"/>
              </a:rPr>
              <a:t>Tip-of-the-Tongue Phenomen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</a:rPr>
              <a:t>Strong feeling that a particular word can be recalled, but despite a great deal of effort, we are temporarily unable to recall the info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바탕"/>
              </a:rPr>
              <a:t>Poor encoding or interferen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humanities.byu.edu/elc/student/idioms/idioms/images/tip_of_my_tongue.jpg"/>
          <p:cNvPicPr/>
          <p:nvPr/>
        </p:nvPicPr>
        <p:blipFill>
          <a:blip r:embed="rId1"/>
          <a:stretch/>
        </p:blipFill>
        <p:spPr>
          <a:xfrm>
            <a:off x="2362320" y="4114800"/>
            <a:ext cx="4572000" cy="2320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09480" y="3808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merType Md BT"/>
              </a:rPr>
              <a:t>Retrieval Cues</a:t>
            </a:r>
            <a:r>
              <a:rPr b="0" lang="en-US" sz="2400" spc="-1" strike="noStrike">
                <a:solidFill>
                  <a:srgbClr val="000000"/>
                </a:solidFill>
                <a:latin typeface="AmerType Md BT"/>
              </a:rPr>
              <a:t>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9:20:29Z</dcterms:created>
  <dc:creator>Josh</dc:creator>
  <dc:description/>
  <dc:language>en-US</dc:language>
  <cp:lastModifiedBy>hberndt</cp:lastModifiedBy>
  <dcterms:modified xsi:type="dcterms:W3CDTF">2009-03-25T14:24:54Z</dcterms:modified>
  <cp:revision>25</cp:revision>
  <dc:subject/>
  <dc:title>No Slide Title</dc:title>
</cp:coreProperties>
</file>